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582-1391-4ACE-ACB1-F719B4E4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7E8-6D8C-42E6-A4BD-30EA0FBC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8A9-DB67-477F-BA33-A7D253DB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C01-B401-4C0F-91D3-C7B3FF4A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47F-66DC-4A39-836C-1DE7C416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98B-A912-45D8-9A6E-19A4CB72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A38-574C-4814-BFD7-C19C9C28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E07-3304-4AE6-8C07-74FB2700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9C7-2938-4647-A41C-1070D93A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767-C25A-4391-A106-909E14FD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F1C-1803-423C-B5AB-8D88FC0C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927-D9AB-4351-8C6B-01D9A2D5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F693-1A26-4202-A664-8C40E198E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5734080"/>
            <a:ext cx="2195280" cy="87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16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Komárom Város Önkormányza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ÁROP 1.A.2/A-2008-0077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ÁJÉKOZTATÓ AZ ESÉLYEGYENLŐSÉGI SZEMPONTOK ÉRVÉNYESÍTÉSÉR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2303280" cy="615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627280" y="6093000"/>
            <a:ext cx="403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 projekt az Európai Unió támogatásával, az Európai Szociális Alap társfinanszírozásával valósul m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950080"/>
            <a:ext cx="626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20000" y="549360"/>
            <a:ext cx="10508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2852640"/>
            <a:ext cx="8291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élcsoport és esélyegyenlőségi terüle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z esélyegyenlőség célcsoportj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Vele született vagy általuk nem befolyásolható tulajdonsága miatt a társadalomban hátrányba kerülő emberek és csoportja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Nem (sex – ge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Faji hovatartozás, bőrszín, nemzetiség, nemzeti vagy etnikai, vallási kisebbséghez tartozá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Fogyatékossá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Szexuális irányultság, nemi identi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aramond"/>
              </a:rPr>
              <a:t>Életkor, családi állapot, társadalmi származás, vagyoni helyzet, világnézeti meggyőződés, politikai vagy más vélem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i terüle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6800" indent="-3168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ok a területek melyek hozzájárulhatnak az esélyegyenlőségi célcsoportok hazai helyzetének javulásáho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aládbarát munkahelyi körülmények megteremtése, erősí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mek (férfiak és nők) közötti esélykülönbségek csökkenté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akadálymentesítés előrehalad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gyatékkal élők életminőségének és munkapiaci esélyeinek jav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omák életminőségének és munkapiaci esélyeinek javít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68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ás hátrányos helyzetű csoportok munkapiaci és társadalmi esélyeinek javítá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68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Irányelvek, jogszabály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4800" indent="-3348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urópai Unió Tanácsa 2000-ben két nagyjelentőségű irányelvet (Faji Irányelv és Foglalkoztatási Irányelv) is elfogadott a diszkrimináció visszaszorítására, melyek hazai jogrendszerbe illesztésének az Unióhoz való csatlakozásig meg kellett történnie. A törvény elfogadásával ezen kívül még hat irányelv – többségükben a nők és a férfiak egyenlő bánásmódban részesítésének követelményét tartalmazó – átültetése történt m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00/43/EK irányelv a személyek közötti, faji vagy etnikai származásra való tekintet nélküli egyenlő bánásmód elvének végrehajtásáró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000/78/EK  irányelv a  foglalkoztatási  és  munkahelyi  egyenlő bánásmód általános kereteinek végrehajtásáró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3. évi CXXV. Törvény az egyenlő bánásmódról és az esélyegyenlőség előmozdításáról (Ebktv.)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: önkormányzatokra is kiterjesztett törvény, az 50 munkavállalónál több személyt foglalkoztató költségvetési szervekre vonatkozóan esélyegyenlőségi program kidolgozását, elfogadását írja el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just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Magyar Köztársaság 2010. évi költségvetését megalapozó egyes törvények módosításáról szóló 2009. évi CIX. Törvény  (Tv.) kiegészítette az Ebktv-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49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Tv. kötelezővé teszi a helyi önkormányzatok és többcélú kistérségi társulások számára az öt évre szóló helyi esélyegyenlőségi program elfogadás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program hiányában az önkormányzat, többcélú kistérségi társulás egyes pályázati forrásokból nem részesül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 leghátrányosabb helyzetű kistérségekben lévő, valamint 20.000 lakos feletti települések esetében 2010. július 1-től, egyéb települések esetében 2011. január 1-től kell alkalmazni a helyi esélyegyenlőségi program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120/2010. (IV.16.) Kormány rendelet a helyi esélyegyenlőségi program elkészítésének szempontjairól (Hepr.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ÁROP szempontok teljesül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91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saládbarát munkahelyi körülmények megteremtése, erősí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914120"/>
            <a:ext cx="8496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A megkülönböztetés tilalma, egyenlő bánásmó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GYES-ről, GYEd-ről, ápolási díjról visszatérők alkalmazása az elmúlt, ill. következő 5 év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Rugalmas munkaidő szervezés, vagy csúsztatható munkakezdés lehető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Munkaidő- kedvezmény biztosítása a dolgozók továbbképzéséh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GYES-en, GYED-en lévő munkatársakkal való szervezett kapcsolattar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7040" indent="-41148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Megvalósítás során eszközöket alkalmaz a célcsoport érdekeinek figyelembe vételére, védelmére</a:t>
            </a:r>
            <a:r>
              <a:rPr b="0" lang="hu-HU" sz="2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50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emek közötti esélykülönbségek csökkenté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771560"/>
            <a:ext cx="84960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YES-ről, GYED-ről, ápolási díjról visszatérők alkalmazása az elmúlt, ill. következő 5 év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GYES-en, GYED-en lévő munkatársakkal való szervezett kapcsolattar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Megvalósítás során eszközöket alkalmaz a célcsoport érdekeinek figyelembe vételére, védelmére</a:t>
            </a:r>
            <a:r>
              <a:rPr b="0" lang="hu-HU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915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„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Minden hátrányos megkülönböztetés sérti az emberi méltóságot, de nem minden emberi méltóságot sértő magatartás jelenti az egyenlő bánásmód sérelmét.”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Dr. Demeter J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379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kadálymentesítés előrehalad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2131560"/>
            <a:ext cx="84960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ervezet döntéshozói, munkavállalói vagy közönsége számára évente esélyegyenlőségi képzést 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z esélyegyenlőségi célcsoportot, vagy annak képviselőjét bevonja a projekt tervezésé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kommunikációs akadálymentes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21140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ás hátrányos helyzetű csoportok munkapiaci és társadalmi esélyeinek jav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2490480"/>
            <a:ext cx="84960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munkatárs, felelős alkalmaz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sélyegyenlőségi terv, koncepció meglé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5680" indent="-457200" algn="just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szervezet döntéshozói, munkavállalói vagy közönsége számára évente esélyegyenlőségi képzést 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KÖSZÖNÖM MEGTISZTELŐ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GYELMÜK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2303280" cy="615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27280" y="6165720"/>
            <a:ext cx="403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projekt az Európai Unió támogatásával, az Európai Szociális Alap társfinanszírozásával valósul m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021360"/>
            <a:ext cx="64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2852280"/>
            <a:ext cx="8291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ogalm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59640" y="5734080"/>
            <a:ext cx="219528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 = Egyenlő bánásmó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915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z  egyenlő  bánásmód  és  az  esélyegyenlőség  fogalmát  gyakran  használják  szinonimaként,  ami  azt sugallja,  hogy  egy  és  ugyanazon  dologról  van  szó.  Az  egyenlő   bánásmód  elve(másként  a  diszkrimináció  tilalma)  és  az  esélyegyenlőségi  politika  ugyanannak  az  elvárásnak  két eltérő  filozófiájú megközelíté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z esélyegyenlőség érvényesítése többet, mást kíván  meg,  mint pusztán a diszkriminációmentes működés  biztosítása.  Az  esélyegyenlőség  alapja  a  diszkrimináció-mentesség.  Ezen  felül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ét  terület tudja erősíteni az esélyegyenlőséget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. saját szervezetén bel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. az általa nyújtott szolgáltatás és más tevékenység sorá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sélyegyenlőség = Egyenlő bánásmó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. A szervezeten belül azzal tudja egy szervezet érvényesíteni az esélyegyenlőséget, ha figyel arra, hogy nagyobb esélyt kapjanak ezen célcsoportok a munkavállalásra és az el menetel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2.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zolgáltatás nyújtása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orán arra kell törekedni, hogy a célcsoportok tagj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inél nagyobb számban kapjanak információt szolgáltatásairó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minél nagyobb számban részesüljenek a szolgáltatásaiból és más tevékenységébő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- versenyképességét,  helyzetét,  életkörülményeit  érdemben  javítsák  a  szervezetszolgáltatás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odern használatban olyan megkülönböztető bánásmód (cselekedet, tevékenység, kijelentés, elmulasztott tett, viselkedés), mely az egyén (személy) vagy a csoport esélyegyenlőségére hat. A hatása lehet negatív vagy pozitív, módszere pedig nyílt vagy burkol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Negatív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3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átrányos megkülönbözteté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szkrimináció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vagy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egatív diszkrimináció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ösztönös vagy tudatos kirekesztő, megalázó cselekedet. Indítéka lehet a fölérendeltség megszerzése vagy megtartása a csoporton belül vagy csoportok között. Az egyenlő bánásmód elvével ellentétes eljárás. Általa létrejön az esélyegyenlőtlenség, a gazdasági vagy társadalmi igazságtalanság. Ürügye a személy vagy csoport másiktól eltérő tulajdonságáról (másságáról) szerzett ismer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Pozitív diszkrimin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oportra, személyre vonatkozó jogi, adminisztratív vagy egyéb segítséget jelent, melyre a csoport vagy személy valamilyen szempontból a többséghez képest hátrányos helyzete ad okot. Indítéka a domináns egyén vagy csoport együttérzése, megértés illetve a másik fél követelése vagy tiltakozása a gazdasági és társadalmi igazságtalanság ellen. Szándéka a szolidaritás, az embercsoportok közötti gazdasági vagy társadalmi igazságtalanság enyhítése, vagyis az esélyegyenlőség megteremtésre. A pozitív diszkrimináció bizonyos esetben korlátokat állít főleg a domináns és esetleg a hátrányos helyzetben lévőnek, mégis az esélyegyenlőséget vizsgálva igazságosabb. Például ilyen egy alulképviselt csoport tagjainak segítése, részesülése az arányosság elvén (kvótáv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A megkülönböztetés módsz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915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Nyílt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mikor valakit az összehasonlítható helyzetben lévő többieknél, nyíltan kedvezőbben vagy kevésbé kedvezően kezeln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Burkolt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kkor fordul elő, amikor egy látszólag semleges előírás, ismérv vagy gyakorlat kedvezőbb vagy kedvezőtlenebb helyzetbe hoz valak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0:16:45Z</dcterms:created>
  <dc:creator>cmrt</dc:creator>
  <dc:description/>
  <dc:language>en-US</dc:language>
  <cp:lastModifiedBy>Gizella</cp:lastModifiedBy>
  <dcterms:modified xsi:type="dcterms:W3CDTF">2010-08-23T11:29:51Z</dcterms:modified>
  <cp:revision>35</cp:revision>
  <dc:subject/>
  <dc:title>1. dia</dc:title>
</cp:coreProperties>
</file>