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AA7-A950-4181-AF8A-0A45F496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6BB-DDE2-4D42-A94D-9977BFB6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F9B-C7E4-4524-9A6F-9B3CCD96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036-4582-4C33-AB26-1B476FB7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A75A-8954-4DEE-A08C-54164F8D1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CE6C-7DB1-4F01-96B1-B80DAAB0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1864-941C-42A3-8324-6EF8038A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2EF6-3F66-48B9-A60C-21637E06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B84F-FFAE-474F-B1B6-88F992E7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02A9-6935-4BC0-B858-4EAE4346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9A4A-AF6C-457C-BEE3-A52C9947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8AB-C19D-45D5-A4DB-B32678C8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8626-1F74-46D6-A703-4B7FB58D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1D09-F86C-4F19-9B49-9BFD2A71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387A-C84A-40D0-AA6E-726135B3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12CB-3014-4FE7-B9F6-4C063112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5F95-1022-4CAC-B62A-3153EEA5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FEA-5B39-4A8E-B32A-0D25B9E2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9308-10C9-4219-A0D5-2D4B71EC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A48-A445-4ED6-9AF1-5458F4B5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622D-4341-4C7F-A105-A8F87449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B08-C7A7-4BA8-9471-3CFC22C9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030D-2FB4-4DBF-9763-8D9840E3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D85-4441-468F-AF18-D8AE1B61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1674-8505-4CD3-9E33-A56E43954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A170-B22A-41FD-A88D-510CDED21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UNKAHELYI  EGÉSZSÉGVÉDELMI ÉS BIZTONSÁGI IRÁNYÍTÁSI RENDSZ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EBIR) SZABVÁNY ISMERTET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8101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Gondoskodni kell az erőforrásokról a rendszer bevezetéséhez és fenntartásához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vezetőség egy tagjának kinevez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adatai, jogosultsága, felelőssé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rögzí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Jelentés készítési 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2. Képzés, tudatosság, 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felkészültség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Oktatás megtervez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Tudatosság kialakítá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9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ő felkészültség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ott intézkedés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3. Tanácskozás és kommunik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bevezetése a MEB információk  munkavállalók és az érdekelt felek felé történő eljuttatására, a munkavállalók bevonása a szabályozások kialakításáb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4. Dokumentáció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MEBIR elemei - politika, célok, szabályozások, feljegyzések - kölcsön-hatásainak, valamint a kapcsolódó dokumentációnak a meghatározása.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dokumentáció tárolható bármilyen alakú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vagy típusú adathordoz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5. A dokumentumok és adatok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kezel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környezetközpontú  irányítási rendszer számára szükséges dokumentumokat ellenőrzés alatt kell tarta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6. A működés szabályozá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zonosítani és szabályozni kell a veszélyekkel kapcsolatos műveleteket, tevékenységeket, összhangban a politikával és a célokkal. Ezeknek ki kell terjednie a munkahelyekre, a folyamatokra, a berendezésekre, gépekre,  a karbantartásra é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unkaszervezés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0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7. Felkészülés és reagálás</a:t>
            </a:r>
            <a:br>
              <a:rPr sz="4000"/>
            </a:br>
            <a:r>
              <a:rPr b="1" lang="en-US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vészhelyzetek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ialakítása a lehetséges események és vészhelyzetek meghatározására, felismerésére, a reagálási tevékenységre, valamint a lehetséges egészségkárosodás és sérülés megelőzésére és enyhítésére. Értékelni kell az eseményeket, vészhelyzeteket bekövetkezésük után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8208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1. Figyelemmel kísérés és 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mér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 kialakítása a MEB működése eredményességének figyelemmel kísérésére és mérésére, valamint a jogszabályi követelmények betartásár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szükséges mérőeszközöknek kalib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áltnak kell lenniü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2. Balesetek, események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nemmegfelelőségek,</a:t>
            </a:r>
            <a:br>
              <a:rPr sz="4000"/>
            </a:br>
            <a:r>
              <a:rPr b="1" lang="hu-HU" sz="4000" spc="-1" strike="noStrike">
                <a:solidFill>
                  <a:srgbClr val="4d4d4d"/>
                </a:solidFill>
                <a:latin typeface="Times New Roman"/>
              </a:rPr>
              <a:t>          </a:t>
            </a: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helyesbítés és megelőz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Eljár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alesetek, események kez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okok vizsgálatár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következmények enyhít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792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helyesbítés és megelőzés kezdemé-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  nyezésére, arányban a MEB kockázat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413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838188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3. Feljegyzés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Feljegyzéseket kell készíteni és ezeket meg kell őrizni, hogy bizonyítékul szolgáljanak a MEBIR  megfelelőségére, eredményes működésére. A feljegyzéseknek igazolni kell a képzést,  az auditokat és az átvizsgálás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1. ÁLTALÁNOS KÖVETELMÉNY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szervezetnek létre kell hoznia, és fenn kell tartania egy környezetközpontú irányítási rendszert, az </a:t>
            </a:r>
            <a:br>
              <a:rPr sz="3600"/>
            </a:b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SZ 28001:2003 szabvány követelményeinek megfelelő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5. 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LENŐRZÉS É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ELYESBÍ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5.4. Au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Tervezett, rendszeres és átfogó aud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rendszer-követelmények teljesülésének értékel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bevezetés, fenntartás ellenőrzésér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7560">
              <a:lnSpc>
                <a:spcPct val="90000"/>
              </a:lnSpc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eredményesség értékel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 vezetés részére információt kell adni az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  audit eredményérő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6. VEZETŐSÉGI ÁTVIZSGÁ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202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Rendszerértékelés a folyamatos javulás érdekében. Figyelembe veszi az auditok, az ellenőrzések, a helyesbítő, megelőző intézkedések, az érdekelt felek visszajelzéseinek tapasztalatait. Vizsgálja a politika megfelelőségét, a célok teljesülését, meghatározza a fejlesztési feladatok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Az átvizsgálást dokumentálni k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2. MEB POLI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8459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lkalmassá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fel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kötelezettsé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Közvetítés a munkavállalók fel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Hozzáférhetősé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jlesz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95280" y="54900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lkalmas munkahelyi és egyészség-védelmi politika megfogalmazása, rögzítése, közvetítése a munkavállalók  felé és hozzáférés biztosítása a nyilvánosság szám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A politika legyen összhangban a szervezet és az érdekelt felek igényei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artalmazza a szervezet egészére kiterjedő elkötelezettséget az egészség védelmére, a biztonságra, a jogszabályok betartásá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1. Veszélyazonosítás, kockázat-értékelés és a kockázat kézben tartásának tervezése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készítés a veszélyek folyamatos felismerésére, a kockázatok értékelésé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és a szükséges kézbentartási intézkedések bevezet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341000"/>
            <a:ext cx="8740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2. Jogi és egyéb követelménye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emzés 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Követ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Eljárás a környezeti tényezőkre vonatkozó jogszabályok megismerésére, folyamatos figyelésére, a munkavállalók és az érdekelt felek tájékoztatásá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412640"/>
            <a:ext cx="846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3. Cél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 Mér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Célok rögzítése a jogszabályi követelmé-nyek,  a veszélyek és a kockázatok, </a:t>
            </a:r>
            <a:br>
              <a:rPr sz="3600"/>
            </a:br>
            <a:r>
              <a:rPr b="0" lang="hu-HU" sz="3600" spc="-1" strike="noStrike">
                <a:solidFill>
                  <a:srgbClr val="4d4d4d"/>
                </a:solidFill>
                <a:latin typeface="Times New Roman"/>
              </a:rPr>
              <a:t>érdekelt felek elvárásainak figyelembe vételével, összhangban a MEB politikáv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3. TERVEZ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000" y="1218960"/>
            <a:ext cx="8459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3.4. MEB irányítási program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Felelősségek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Eszközök, határid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A programok készítése és rögzítése a célok és előirányzatok elérésé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1970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.4. BEVEZETÉS ÉS MŰKÖ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d4d4d"/>
                </a:solidFill>
                <a:uFillTx/>
                <a:latin typeface="Times New Roman"/>
              </a:rPr>
              <a:t>4.4.1. Szervezeti felépítés és felelőssé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ghatározása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 Ismerteté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Szabályozni kell az érintett személyek feladatait, felelősségét, az egymás közötti függőségeket, kapcsolatokat és ezt az érintettek tudomására kell hozni.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48428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07:40:29Z</dcterms:modified>
  <cp:revision>90</cp:revision>
  <dc:subject/>
  <dc:title>A KÖZPONTI TEAM FELADATAI</dc:title>
</cp:coreProperties>
</file>